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FBF4-0C7F-4D6E-A12A-3C17851B39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F9AF692E-0F15-4B9F-8179-D0F4F6972F3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7D1-684B-4C69-A12A-7336E0C7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F37-640A-4DB4-8342-BE9EE029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9E7-334D-4B99-92C4-B7A9AFF9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34B-C53C-4EAE-A540-3871FEB0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0940-5307-423D-837B-D45BCCDA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ED8E-EC2A-43D9-8087-7A75AA93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D799-E28A-432F-9AC2-3148B2D6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61B9-DA67-4D49-ACD6-198A07BB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561-BA83-4868-B9BC-C6E07453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6D70-11CE-4CD9-8A52-AE7BD54E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BF01-124C-4D00-B7BA-FDDF76BA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957-645E-4D38-A832-2410DEEA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FFFB-2C22-40C9-B5CF-D27CE65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0E1E-64B6-48B2-9983-25195126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239E-2C96-4326-A2E4-2CB71184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B47D-79E8-4F1E-AAF6-695EEA8C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15A4-2F65-4CF1-AF30-36AA6674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E346-3942-491E-A4EB-FEDFDC6D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FFA25-C9E9-474C-AAD4-C6786605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83AC-DC68-411F-87F2-76C77733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5BB53-A04F-49D1-A823-8ABD0371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9D80-ABF9-4580-9DB8-2B236EEF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03A-B82B-4415-BE7F-FB903B3B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80CA-0B39-476D-B644-D8501D49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DA31-AB96-45BC-9158-5A12210F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0AD7-0F9D-492C-A761-E7C29660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27EF8-DEA0-4B0A-B8D0-4CC019AC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165E-1F4F-4C5F-8E6A-3FB441CD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E8D4-E0F4-4153-B207-8908727D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69DD-31BC-4AA3-822F-C116EA5F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CCD-2660-42C6-8B61-D507AF3A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FEE-FE59-46B9-A1A7-AE40BF42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F45-8E7E-49D4-A119-8C6CE9A7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A50-656E-4795-969E-0F3022CB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360-04BC-4A38-8226-4E60F1A0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766-FB34-46AD-AB1E-90DABC8A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BC7F-E06A-4F8B-88E0-C25592E750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2DF0-BAE3-4C3A-83FD-D3B73EEC6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C4BC-8783-4D9B-9601-AEC5CD5EB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vilajnac001.co.yu/evropske_zastave/mali_grb-srbij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vilajnac001.co.yu/evropske_zastave/mali_grb-srbij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vilajnac001.co.yu/evropske_zastave/mali_grb-srbij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hyperlink" Target="http://cordis.europa.eu/fp6/projects.htm" TargetMode="External"/><Relationship Id="rId4" Type="http://schemas.openxmlformats.org/officeDocument/2006/relationships/hyperlink" Target="http://cordis.europa.eu/fp6/projects.htm" TargetMode="External"/><Relationship Id="rId5" Type="http://schemas.openxmlformats.org/officeDocument/2006/relationships/hyperlink" Target="http://cordis.europa.eu/fp6/projects.htm" TargetMode="External"/><Relationship Id="rId6" Type="http://schemas.openxmlformats.org/officeDocument/2006/relationships/hyperlink" Target="http://cordis.europa.eu/fp6/projects.htm" TargetMode="External"/><Relationship Id="rId7" Type="http://schemas.openxmlformats.org/officeDocument/2006/relationships/hyperlink" Target="http://cordis.europa.eu/fp6/projects.htm" TargetMode="External"/><Relationship Id="rId8" Type="http://schemas.openxmlformats.org/officeDocument/2006/relationships/hyperlink" Target="http://cordis.europa.eu/fp6/projects.htm" TargetMode="External"/><Relationship Id="rId9" Type="http://schemas.openxmlformats.org/officeDocument/2006/relationships/hyperlink" Target="http://cordis.europa.eu/fp6/projects.htm" TargetMode="External"/><Relationship Id="rId10" Type="http://schemas.openxmlformats.org/officeDocument/2006/relationships/hyperlink" Target="http://cordis.europa.eu/fp6/projects.htm" TargetMode="External"/><Relationship Id="rId11" Type="http://schemas.openxmlformats.org/officeDocument/2006/relationships/hyperlink" Target="http://cordis.europa.eu/fp6/projects.htm" TargetMode="External"/><Relationship Id="rId12" Type="http://schemas.openxmlformats.org/officeDocument/2006/relationships/hyperlink" Target="http://cordis.europa.eu/fp6/projects.htm" TargetMode="External"/><Relationship Id="rId13" Type="http://schemas.openxmlformats.org/officeDocument/2006/relationships/hyperlink" Target="http://www.cordis.lu/fp6/projects.htm" TargetMode="External"/><Relationship Id="rId14" Type="http://schemas.openxmlformats.org/officeDocument/2006/relationships/hyperlink" Target="http://www.cordis.lu/fp6/projects.htm" TargetMode="External"/><Relationship Id="rId15" Type="http://schemas.openxmlformats.org/officeDocument/2006/relationships/hyperlink" Target="http://www.cordis.lu/fp6/projects.htm" TargetMode="External"/><Relationship Id="rId16" Type="http://schemas.openxmlformats.org/officeDocument/2006/relationships/hyperlink" Target="http://cordis.europa.eu/fetch?CALLER=EN_NEWS_EVENT" TargetMode="External"/><Relationship Id="rId17" Type="http://schemas.openxmlformats.org/officeDocument/2006/relationships/hyperlink" Target="http://cordis.europa.eu/fetch?CALLER=EN_NEWS_EVENT" TargetMode="External"/><Relationship Id="rId18" Type="http://schemas.openxmlformats.org/officeDocument/2006/relationships/hyperlink" Target="http://cordis.europa.eu/fetch?CALLER=EN_NEWS_EVENT" TargetMode="External"/><Relationship Id="rId19" Type="http://schemas.openxmlformats.org/officeDocument/2006/relationships/hyperlink" Target="http://cordis.europa.eu/fetch?CALLER=EN_NEWS_EVENT" TargetMode="External"/><Relationship Id="rId20" Type="http://schemas.openxmlformats.org/officeDocument/2006/relationships/hyperlink" Target="http://cordis.europa.eu/fetch?CALLER=EN_NEWS_EVENT" TargetMode="External"/><Relationship Id="rId21" Type="http://schemas.openxmlformats.org/officeDocument/2006/relationships/hyperlink" Target="http://cordis.europa.eu/fetch?CALLER=EN_NEWS_EVENT" TargetMode="External"/><Relationship Id="rId22" Type="http://schemas.openxmlformats.org/officeDocument/2006/relationships/hyperlink" Target="http://cordis.europa.eu/fetch?CALLER=EN_NEWS_EVENT" TargetMode="External"/><Relationship Id="rId23" Type="http://schemas.openxmlformats.org/officeDocument/2006/relationships/hyperlink" Target="http://ec.europa.eu/research/headlines/archives_diary_en.cfm" TargetMode="External"/><Relationship Id="rId24" Type="http://schemas.openxmlformats.org/officeDocument/2006/relationships/hyperlink" Target="http://ec.europa.eu/research/headlines/archives_diary_en.cfm" TargetMode="External"/><Relationship Id="rId25" Type="http://schemas.openxmlformats.org/officeDocument/2006/relationships/hyperlink" Target="http://ec.europa.eu/research/headlines/archives_diary_en.cfm" TargetMode="External"/><Relationship Id="rId26" Type="http://schemas.openxmlformats.org/officeDocument/2006/relationships/hyperlink" Target="http://ec.europa.eu/research/headlines/archives_diary_en.cfm" TargetMode="External"/><Relationship Id="rId27" Type="http://schemas.openxmlformats.org/officeDocument/2006/relationships/hyperlink" Target="http://ec.europa.eu/research/headlines/archives_diary_en.cfm" TargetMode="External"/><Relationship Id="rId28" Type="http://schemas.openxmlformats.org/officeDocument/2006/relationships/hyperlink" Target="http://ec.europa.eu/research/headlines/archives_diary_en.cfm" TargetMode="External"/><Relationship Id="rId29" Type="http://schemas.openxmlformats.org/officeDocument/2006/relationships/hyperlink" Target="http://ec.europa.eu/research/headlines/archives_diary_en.cfm" TargetMode="External"/><Relationship Id="rId30" Type="http://schemas.openxmlformats.org/officeDocument/2006/relationships/hyperlink" Target="http://ec.europa.eu/research/headlines/archives_diary_en.cfm" TargetMode="External"/><Relationship Id="rId31" Type="http://schemas.openxmlformats.org/officeDocument/2006/relationships/hyperlink" Target="http://ec.europa.eu/research/conferences/index_en.cfm" TargetMode="External"/><Relationship Id="rId32" Type="http://schemas.openxmlformats.org/officeDocument/2006/relationships/hyperlink" Target="http://ec.europa.eu/research/conferences/index_en.cfm" TargetMode="External"/><Relationship Id="rId33" Type="http://schemas.openxmlformats.org/officeDocument/2006/relationships/hyperlink" Target="http://ec.europa.eu/research/conferences/index_en.cfm" TargetMode="External"/><Relationship Id="rId34" Type="http://schemas.openxmlformats.org/officeDocument/2006/relationships/hyperlink" Target="http://ec.europa.eu/research/conferences/index_en.cfm" TargetMode="External"/><Relationship Id="rId35" Type="http://schemas.openxmlformats.org/officeDocument/2006/relationships/hyperlink" Target="http://ec.europa.eu/research/conferences/index_en.cfm" TargetMode="External"/><Relationship Id="rId36" Type="http://schemas.openxmlformats.org/officeDocument/2006/relationships/hyperlink" Target="http://ec.europa.eu/research/conferences/index_en.cfm" TargetMode="External"/><Relationship Id="rId37" Type="http://schemas.openxmlformats.org/officeDocument/2006/relationships/hyperlink" Target="http://ec.europa.eu/research/conferences/index_en.cfm" TargetMode="External"/><Relationship Id="rId3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hyperlink" Target="http://www.hyperion.ie/euassociations.htm" TargetMode="External"/><Relationship Id="rId4" Type="http://schemas.openxmlformats.org/officeDocument/2006/relationships/hyperlink" Target="http://www.hyperion.ie/euassociations.htm" TargetMode="External"/><Relationship Id="rId5" Type="http://schemas.openxmlformats.org/officeDocument/2006/relationships/hyperlink" Target="http://www.hyperion.ie/euassociations.htm" TargetMode="External"/><Relationship Id="rId6" Type="http://schemas.openxmlformats.org/officeDocument/2006/relationships/hyperlink" Target="http://www.hyperion.ie/euassociations.htm" TargetMode="External"/><Relationship Id="rId7" Type="http://schemas.openxmlformats.org/officeDocument/2006/relationships/hyperlink" Target="http://www.hyperion.ie/euassociations.htm" TargetMode="External"/><Relationship Id="rId8" Type="http://schemas.openxmlformats.org/officeDocument/2006/relationships/hyperlink" Target="http://www.cost.esf.org/index.php" TargetMode="External"/><Relationship Id="rId9" Type="http://schemas.openxmlformats.org/officeDocument/2006/relationships/hyperlink" Target="http://www.cost.esf.org/index.php" TargetMode="External"/><Relationship Id="rId10" Type="http://schemas.openxmlformats.org/officeDocument/2006/relationships/hyperlink" Target="http://www.cost.esf.org/index.php" TargetMode="External"/><Relationship Id="rId11" Type="http://schemas.openxmlformats.org/officeDocument/2006/relationships/hyperlink" Target="http://cordis.europa.eu/fp7/ncp.htm" TargetMode="External"/><Relationship Id="rId12" Type="http://schemas.openxmlformats.org/officeDocument/2006/relationships/hyperlink" Target="http://cordis.europa.eu/fp7/ncp.htm" TargetMode="External"/><Relationship Id="rId13" Type="http://schemas.openxmlformats.org/officeDocument/2006/relationships/hyperlink" Target="http://cordis.europa.eu/fp7/ncp.htm" TargetMode="External"/><Relationship Id="rId14" Type="http://schemas.openxmlformats.org/officeDocument/2006/relationships/hyperlink" Target="http://cordis.europa.eu/fp7/ncp.htm" TargetMode="External"/><Relationship Id="rId15" Type="http://schemas.openxmlformats.org/officeDocument/2006/relationships/hyperlink" Target="http://cordis.europa.eu/fp7/ncp.htm" TargetMode="External"/><Relationship Id="rId16" Type="http://schemas.openxmlformats.org/officeDocument/2006/relationships/hyperlink" Target="https://cordis.europa.eu/emmfp7/index.cfm?fuseaction=wel.welcome" TargetMode="External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hyperlink" Target="http://cordis.europa.eu/infrastructures/projects.htm" TargetMode="External"/><Relationship Id="rId4" Type="http://schemas.openxmlformats.org/officeDocument/2006/relationships/hyperlink" Target="http://cordis.europa.eu/infrastructures/projects.htm" TargetMode="External"/><Relationship Id="rId5" Type="http://schemas.openxmlformats.org/officeDocument/2006/relationships/hyperlink" Target="http://cordis.europa.eu/infrastructures/projects.htm" TargetMode="External"/><Relationship Id="rId6" Type="http://schemas.openxmlformats.org/officeDocument/2006/relationships/hyperlink" Target="http://cordis.europa.eu/infrastructures/projects.htm" TargetMode="External"/><Relationship Id="rId7" Type="http://schemas.openxmlformats.org/officeDocument/2006/relationships/hyperlink" Target="http://cordis.europa.eu/infrastructures/projects.htm" TargetMode="External"/><Relationship Id="rId8" Type="http://schemas.openxmlformats.org/officeDocument/2006/relationships/hyperlink" Target="http://cordis.europa.eu/infrastructures/projects.htm" TargetMode="External"/><Relationship Id="rId9" Type="http://schemas.openxmlformats.org/officeDocument/2006/relationships/hyperlink" Target="http://cordis.europa.eu/infrastructures/projects.htm" TargetMode="External"/><Relationship Id="rId10" Type="http://schemas.openxmlformats.org/officeDocument/2006/relationships/hyperlink" Target="http://cordis.europa.eu/infrastructures/projects.htm" TargetMode="External"/><Relationship Id="rId11" Type="http://schemas.openxmlformats.org/officeDocument/2006/relationships/hyperlink" Target="http://www.cordis.lu/fp6/projects.htm" TargetMode="External"/><Relationship Id="rId12" Type="http://schemas.openxmlformats.org/officeDocument/2006/relationships/hyperlink" Target="http://www.cordis.lu/fp6/projects.htm" TargetMode="External"/><Relationship Id="rId13" Type="http://schemas.openxmlformats.org/officeDocument/2006/relationships/hyperlink" Target="http://www.cordis.lu/fp6/projects.htm" TargetMode="External"/><Relationship Id="rId14" Type="http://schemas.openxmlformats.org/officeDocument/2006/relationships/hyperlink" Target="http://cordis.europa.eu/mc-opportunities/index.cfm?fuseaction=dataForm.doSearch" TargetMode="External"/><Relationship Id="rId15" Type="http://schemas.openxmlformats.org/officeDocument/2006/relationships/hyperlink" Target="http://cordis.europa.eu/mc-opportunities/index.cfm?fuseaction=dataForm.doSearch" TargetMode="External"/><Relationship Id="rId16" Type="http://schemas.openxmlformats.org/officeDocument/2006/relationships/hyperlink" Target="http://cordis.europa.eu/mc-opportunities/index.cfm?fuseaction=dataForm.doSearch" TargetMode="External"/><Relationship Id="rId17" Type="http://schemas.openxmlformats.org/officeDocument/2006/relationships/hyperlink" Target="http://cordis.europa.eu/mc-opportunities/index.cfm?fuseaction=dataForm.doSearch" TargetMode="External"/><Relationship Id="rId18" Type="http://schemas.openxmlformats.org/officeDocument/2006/relationships/hyperlink" Target="http://cordis.europa.eu/mc-opportunities/index.cfm?fuseaction=dataForm.doSearch" TargetMode="External"/><Relationship Id="rId19" Type="http://schemas.openxmlformats.org/officeDocument/2006/relationships/hyperlink" Target="http://cordis.europa.eu/mc-opportunities/index.cfm?fuseaction=dataForm.doSearch" TargetMode="External"/><Relationship Id="rId20" Type="http://schemas.openxmlformats.org/officeDocument/2006/relationships/hyperlink" Target="http://cordis.europa.eu/mc-opportunities/index.cfm?fuseaction=dataForm.doSearch" TargetMode="External"/><Relationship Id="rId21" Type="http://schemas.openxmlformats.org/officeDocument/2006/relationships/hyperlink" Target="http://cordis.europa.eu/mc-opportunities/index.cfm?fuseaction=dataForm.doSearch" TargetMode="External"/><Relationship Id="rId22" Type="http://schemas.openxmlformats.org/officeDocument/2006/relationships/hyperlink" Target="http://cordis.europa.eu/mc-opportunities/index.cfm?fuseaction=dataForm.doSearch" TargetMode="External"/><Relationship Id="rId23" Type="http://schemas.openxmlformats.org/officeDocument/2006/relationships/hyperlink" Target="http://cordis.europa.eu/mc-opportunities/index.cfm?fuseaction=dataForm.doSearch" TargetMode="External"/><Relationship Id="rId24" Type="http://schemas.openxmlformats.org/officeDocument/2006/relationships/hyperlink" Target="http://cordis.europa.eu/mc-opportunities/index.cfm?fuseaction=dataForm.doSearch" TargetMode="External"/><Relationship Id="rId25" Type="http://schemas.openxmlformats.org/officeDocument/2006/relationships/hyperlink" Target="http://europa.eu.int/eracareers/" TargetMode="External"/><Relationship Id="rId26" Type="http://schemas.openxmlformats.org/officeDocument/2006/relationships/hyperlink" Target="http://europa.eu.int/eracareers/" TargetMode="External"/><Relationship Id="rId27" Type="http://schemas.openxmlformats.org/officeDocument/2006/relationships/hyperlink" Target="http://europa.eu.int/eracareers/" TargetMode="External"/><Relationship Id="rId28" Type="http://schemas.openxmlformats.org/officeDocument/2006/relationships/hyperlink" Target="http://europa.eu.int/eracareers/" TargetMode="External"/><Relationship Id="rId29" Type="http://schemas.openxmlformats.org/officeDocument/2006/relationships/hyperlink" Target="http://europa.eu.int/eracareers/" TargetMode="External"/><Relationship Id="rId30" Type="http://schemas.openxmlformats.org/officeDocument/2006/relationships/hyperlink" Target="http://cordis.europa.eu/mc-opportunities/index.cfm?fuseaction=dataForm.doSearchEvt" TargetMode="External"/><Relationship Id="rId31" Type="http://schemas.openxmlformats.org/officeDocument/2006/relationships/hyperlink" Target="http://cordis.europa.eu/mc-opportunities/index.cfm?fuseaction=dataForm.doSearchEvt" TargetMode="External"/><Relationship Id="rId32" Type="http://schemas.openxmlformats.org/officeDocument/2006/relationships/hyperlink" Target="http://cordis.europa.eu/mc-opportunities/index.cfm?fuseaction=dataForm.doSearchEvt" TargetMode="External"/><Relationship Id="rId33" Type="http://schemas.openxmlformats.org/officeDocument/2006/relationships/hyperlink" Target="http://cordis.europa.eu/mc-opportunities/index.cfm?fuseaction=dataForm.doSearchEvt" TargetMode="External"/><Relationship Id="rId34" Type="http://schemas.openxmlformats.org/officeDocument/2006/relationships/hyperlink" Target="http://cordis.europa.eu/mc-opportunities/index.cfm?fuseaction=dataForm.doSearchEvt" TargetMode="External"/><Relationship Id="rId35" Type="http://schemas.openxmlformats.org/officeDocument/2006/relationships/hyperlink" Target="http://cordis.europa.eu/mc-opportunities/index.cfm?fuseaction=dataForm.doSearchEvt" TargetMode="External"/><Relationship Id="rId36" Type="http://schemas.openxmlformats.org/officeDocument/2006/relationships/hyperlink" Target="http://cordis.europa.eu/mc-opportunities/index.cfm?fuseaction=dataForm.doSearchEvt" TargetMode="External"/><Relationship Id="rId37" Type="http://schemas.openxmlformats.org/officeDocument/2006/relationships/hyperlink" Target="http://cordis.europa.eu/mc-opportunities/index.cfm?fuseaction=dataForm.doSearchEvt" TargetMode="External"/><Relationship Id="rId38" Type="http://schemas.openxmlformats.org/officeDocument/2006/relationships/hyperlink" Target="http://cordis.europa.eu/mc-opportunities/index.cfm?fuseaction=dataForm.doSearchEvt" TargetMode="External"/><Relationship Id="rId39" Type="http://schemas.openxmlformats.org/officeDocument/2006/relationships/hyperlink" Target="http://cordis.europa.eu/mc-opportunities/index.cfm?fuseaction=dataForm.doSearchEvt" TargetMode="External"/><Relationship Id="rId40" Type="http://schemas.openxmlformats.org/officeDocument/2006/relationships/hyperlink" Target="http://cordis.europa.eu/mc-opportunities/index.cfm?fuseaction=dataForm.doSearchEvt" TargetMode="External"/><Relationship Id="rId41" Type="http://schemas.openxmlformats.org/officeDocument/2006/relationships/hyperlink" Target="http://cordis.europa.eu/news/en/home.html" TargetMode="External"/><Relationship Id="rId42" Type="http://schemas.openxmlformats.org/officeDocument/2006/relationships/hyperlink" Target="http://cordis.europa.eu/news/en/home.html" TargetMode="External"/><Relationship Id="rId43" Type="http://schemas.openxmlformats.org/officeDocument/2006/relationships/hyperlink" Target="http://cordis.europa.eu/news/en/home.html" TargetMode="External"/><Relationship Id="rId44" Type="http://schemas.openxmlformats.org/officeDocument/2006/relationships/hyperlink" Target="http://cordis.europa.eu/news/en/home.html" TargetMode="External"/><Relationship Id="rId45" Type="http://schemas.openxmlformats.org/officeDocument/2006/relationships/hyperlink" Target="http://cordis.europa.eu/news/en/home.html" TargetMode="External"/><Relationship Id="rId46" Type="http://schemas.openxmlformats.org/officeDocument/2006/relationships/hyperlink" Target="http://cordis.europa.eu/news/en/home.html" TargetMode="External"/><Relationship Id="rId47" Type="http://schemas.openxmlformats.org/officeDocument/2006/relationships/hyperlink" Target="http://cordis.europa.eu/news/en/home.html" TargetMode="External"/><Relationship Id="rId4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hyperlink" Target="http://cordis.europa.eu/partners-service/" TargetMode="External"/><Relationship Id="rId4" Type="http://schemas.openxmlformats.org/officeDocument/2006/relationships/hyperlink" Target="http://cordis.europa.eu/partners-service/" TargetMode="External"/><Relationship Id="rId5" Type="http://schemas.openxmlformats.org/officeDocument/2006/relationships/hyperlink" Target="http://cordis.europa.eu/partners-service/" TargetMode="External"/><Relationship Id="rId6" Type="http://schemas.openxmlformats.org/officeDocument/2006/relationships/hyperlink" Target="http://cordis.europa.eu/partners-service/" TargetMode="External"/><Relationship Id="rId7" Type="http://schemas.openxmlformats.org/officeDocument/2006/relationships/hyperlink" Target="http://cordis.europa.eu/partners-service/" TargetMode="External"/><Relationship Id="rId8" Type="http://schemas.openxmlformats.org/officeDocument/2006/relationships/hyperlink" Target="http://cordis.europa.eu/partners-service/" TargetMode="External"/><Relationship Id="rId9" Type="http://schemas.openxmlformats.org/officeDocument/2006/relationships/hyperlink" Target="http://www.iglortd.org/services/partner.html.net" TargetMode="External"/><Relationship Id="rId10" Type="http://schemas.openxmlformats.org/officeDocument/2006/relationships/hyperlink" Target="http://www.iglortd.org/services/partner.html.net" TargetMode="External"/><Relationship Id="rId11" Type="http://schemas.openxmlformats.org/officeDocument/2006/relationships/hyperlink" Target="http://www.iglortd.org/services/partner.html.net" TargetMode="External"/><Relationship Id="rId12" Type="http://schemas.openxmlformats.org/officeDocument/2006/relationships/hyperlink" Target="http://www.ideal-ist.net/" TargetMode="External"/><Relationship Id="rId13" Type="http://schemas.openxmlformats.org/officeDocument/2006/relationships/hyperlink" Target="http://www.ideal-ist.net/" TargetMode="External"/><Relationship Id="rId14" Type="http://schemas.openxmlformats.org/officeDocument/2006/relationships/hyperlink" Target="http://www.ideal-ist.net/" TargetMode="External"/><Relationship Id="rId15" Type="http://schemas.openxmlformats.org/officeDocument/2006/relationships/hyperlink" Target="http://www.hagridproject.net/index.php" TargetMode="External"/><Relationship Id="rId16" Type="http://schemas.openxmlformats.org/officeDocument/2006/relationships/hyperlink" Target="http://www.hagridproject.net/index.php" TargetMode="External"/><Relationship Id="rId17" Type="http://schemas.openxmlformats.org/officeDocument/2006/relationships/hyperlink" Target="http://www.hagridproject.net/index.php" TargetMode="External"/><Relationship Id="rId18" Type="http://schemas.openxmlformats.org/officeDocument/2006/relationships/hyperlink" Target="http://www.hagridproject.net/index.php" TargetMode="Externa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vilajnac001.co.yu/evropske_zastave/mali_grb-srbij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hyperlink" Target="http://www.svilajnac001.co.yu/evropske_zastave/mali_grb-srbija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vilajnac001.co.yu/evropske_zastave/mali_grb-srbij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307360" y="556272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770120"/>
            <a:ext cx="807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ultative Bureau for International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stry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9960" y="3992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Arial"/>
              </a:rPr>
              <a:t>Steve Quarri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b0b0b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ac021a"/>
                </a:solidFill>
                <a:latin typeface="Arial"/>
              </a:rPr>
              <a:t>Jelena Koli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deas- Frontie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 reinforce excellence, dynamism and creativity in Europea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Arial"/>
              </a:rPr>
              <a:t>Starting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Arial"/>
              </a:rPr>
              <a:t>Advanced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05920" y="228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eople – Human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ity 1: Initial Training of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ity 2: “Life-long Training and Caree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velopment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ity 3: “Industry-Academia Partnerships and Pathway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ity 4: “International Dimension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05920" y="228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Capa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earch Infra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earch for the benefit of S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gion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earch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cience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herent Development of Research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nternational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228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Work Programm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Nomencl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c714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heme 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(Heal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c7140"/>
              </a:buClr>
              <a:buFont typeface="Wingdings 3" charset="2"/>
              <a:buChar char="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ctivity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(correspond to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“bullet points” of the W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fc7140"/>
              </a:buClr>
              <a:buFont typeface="Wingdings 3" charset="2"/>
              <a:buChar char="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rea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(should be stable in the course of the FP7, with a certain dose of flexi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fc7140"/>
              </a:buClr>
              <a:buFont typeface="Wingdings 3" charset="2"/>
              <a:buChar char="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OPIC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(open for proposals in the calls, only for the year in ques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n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29600" y="1522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4312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66680" y="3048120"/>
            <a:ext cx="1447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2082960"/>
            <a:ext cx="3632400" cy="444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Open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P7-PEOPLE-ERG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8 October 2008 at 1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FP7-PEOPLE-IEF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19 August 2008 at 17h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FP7-PEOPLE-IIF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19 August 2008 at 17h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FP7-PEOPLE-IOF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19 August 2008 at 17h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FP7-PEOPLE-IRG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8 October 2008 at 1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FP7-PEOPLE-ITN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2 September 2008 at 1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http://cordis.europa.eu/fp7/people/home_e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Serbian NC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229600" y="1522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8153280" cy="5639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638680" y="5892840"/>
            <a:ext cx="1447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Serbian NC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29600" y="1522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9480" y="1152360"/>
            <a:ext cx="80773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00280" y="2335320"/>
            <a:ext cx="75438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ience is an international su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ink of it like “inbreeding depression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00280" y="1143000"/>
            <a:ext cx="75438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should you be interested in applying for an FP7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0280" y="3527280"/>
            <a:ext cx="75438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P7 is a </a:t>
            </a:r>
            <a:r>
              <a:rPr b="1" lang="en-GB" sz="2400" spc="-1" strike="noStrike">
                <a:solidFill>
                  <a:srgbClr val="ac021a"/>
                </a:solidFill>
                <a:latin typeface="Arial"/>
              </a:rPr>
              <a:t>hu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ource of money for resea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ver €32 billion just for collaborative projec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280" y="4721400"/>
            <a:ext cx="75438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P7 is the best opportunity for a Serbian scientist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 research care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60240" y="1298520"/>
            <a:ext cx="7848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what are the challenges like for you to take part in a FP7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0240" y="2530440"/>
            <a:ext cx="7848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write your own collaborative research project proposal, the challenges are very l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0240" y="376380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you are a beginner you don’t start t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" y="4632480"/>
            <a:ext cx="7848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7 provides many much easier opportunities for you to get onto the first step of the FP7 lad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5160" y="5587920"/>
            <a:ext cx="760320" cy="1219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25480" y="2425680"/>
            <a:ext cx="7407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onsultativni biro je ekstenzija rada Sektora za medjunarodnu saradnju Ministarstva nauke koja je proistekla iz želje da se pojača i pospeši prisustvo srpskih naučnika u medjunarodnim projektima, posebno u FP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09480" y="178740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a European Research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35728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an existing network such as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06404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CSA (support - RegPot) to improve your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20236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a FP research consortium as a WP l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60948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the beginner’s ‘Road map’ to FP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92572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Fellowship in a Marie Curie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49560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e an international workshop/conference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463392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a FP research consortium as a junior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77224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your own FP collaborative research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206360"/>
            <a:ext cx="784872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021a"/>
                </a:solidFill>
                <a:latin typeface="Arial"/>
              </a:rPr>
              <a:t>You start by getting yourself known and net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0760" y="5587920"/>
            <a:ext cx="760320" cy="1219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8080" y="304920"/>
            <a:ext cx="7407360" cy="825480"/>
          </a:xfrm>
          <a:prstGeom prst="rect">
            <a:avLst/>
          </a:prstGeom>
          <a:solidFill>
            <a:srgbClr val="ffffff">
              <a:alpha val="6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important number in FP7 is 5 [petica]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to target petica for every evaluation s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74720" y="1257480"/>
            <a:ext cx="7543440" cy="5562000"/>
            <a:chOff x="774720" y="1257480"/>
            <a:chExt cx="7543440" cy="556200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rcRect l="0" t="0" r="0" b="13901"/>
            <a:stretch/>
          </p:blipFill>
          <p:spPr>
            <a:xfrm>
              <a:off x="774720" y="1257480"/>
              <a:ext cx="7543440" cy="53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4"/>
            <a:srcRect l="0" t="92672" r="0" b="0"/>
            <a:stretch/>
          </p:blipFill>
          <p:spPr>
            <a:xfrm>
              <a:off x="774720" y="6361200"/>
              <a:ext cx="754344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1013040" y="6373800"/>
            <a:ext cx="7055280" cy="371520"/>
            <a:chOff x="1013040" y="6373800"/>
            <a:chExt cx="7055280" cy="371520"/>
          </a:xfrm>
        </p:grpSpPr>
        <p:sp>
          <p:nvSpPr>
            <p:cNvPr id="222" name=""/>
            <p:cNvSpPr/>
            <p:nvPr/>
          </p:nvSpPr>
          <p:spPr>
            <a:xfrm>
              <a:off x="1013040" y="6373800"/>
              <a:ext cx="209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a0000"/>
                  </a:solidFill>
                  <a:latin typeface="Arial"/>
                </a:rPr>
                <a:t>Maximum scor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97400" y="6377040"/>
              <a:ext cx="209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a0000"/>
                  </a:solidFill>
                  <a:latin typeface="Arial"/>
                </a:rPr>
                <a:t>Maximum scor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72040" y="6377040"/>
              <a:ext cx="209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a0000"/>
                  </a:solidFill>
                  <a:latin typeface="Arial"/>
                </a:rPr>
                <a:t>Maximum scor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927000" y="2705040"/>
            <a:ext cx="7086600" cy="2806920"/>
            <a:chOff x="927000" y="2705040"/>
            <a:chExt cx="7086600" cy="2806920"/>
          </a:xfrm>
        </p:grpSpPr>
        <p:sp>
          <p:nvSpPr>
            <p:cNvPr id="226" name=""/>
            <p:cNvSpPr/>
            <p:nvPr/>
          </p:nvSpPr>
          <p:spPr>
            <a:xfrm>
              <a:off x="1778040" y="2933640"/>
              <a:ext cx="1295280" cy="38124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7000" y="4152960"/>
              <a:ext cx="1028880" cy="38088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39600" y="4546440"/>
              <a:ext cx="1028880" cy="38124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16040" y="4546440"/>
              <a:ext cx="1028880" cy="38124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51160" y="2705040"/>
              <a:ext cx="1028520" cy="38124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70600" y="5130720"/>
              <a:ext cx="1143000" cy="38124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949760" y="1773360"/>
            <a:ext cx="47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0b0b"/>
                </a:solidFill>
                <a:latin typeface="Lucida Grande"/>
              </a:rPr>
              <a:t>and Collaborative project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43080" y="2146320"/>
            <a:ext cx="842004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director of an office aiming to help Serbian scientists write successful research proposals for FP7, I have to know where their project idea is starting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3080" y="3882960"/>
            <a:ext cx="842004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eed to know whether it is good enough quality to succeed in FP7. So, I need to have the wisdom of an Irish cowhe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0" y="5587920"/>
            <a:ext cx="760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49160" y="2479680"/>
            <a:ext cx="7620120" cy="825480"/>
          </a:xfrm>
          <a:prstGeom prst="rect">
            <a:avLst/>
          </a:prstGeom>
          <a:solidFill>
            <a:srgbClr val="ff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here is the truth about preparing a successful research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9160" y="1397160"/>
            <a:ext cx="76201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, my young man, to be sure, if I were you, I wouldn’t be starting from her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9160" y="4645080"/>
            <a:ext cx="76201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at’s part of the reason for our visit today - for you to convince me that you do good quality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9160" y="3562200"/>
            <a:ext cx="76201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write good quality research proposals if you’re not already doing good quality resear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49160" y="2590920"/>
            <a:ext cx="7620120" cy="265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idea good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consortium of partners good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t fit into the needs of the 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got a good management pl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your project have an imp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got a realistic bud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project going to answer five key questions?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9160" y="1397160"/>
            <a:ext cx="76201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all be happy to help you at every stage of converting your idea into a successful propo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152388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need to answer these 5 questions in your propo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249640"/>
            <a:ext cx="8229600" cy="228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bother with this research? (what knowledge gap are you trying to fil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European priority? (could it be funded nationall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knowledge already available? (state-of-the-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now the right time? (why wasn’t it done befor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s? (are we the best people to do this work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80060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s to the questions should come in the first 10 li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7200" y="136836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iends and scientific colleag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76212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eria to use to select your partn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97640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utation: scientific excellence in a niche (capabil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501156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ustrial partners, especially S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58300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s available to deliver (capac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319104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essional and timely delivery of documents,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9728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ing and respect of bureaucratic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440532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ingness to work in a team and sha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61960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personality - easy to get on with during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82760" y="1298520"/>
            <a:ext cx="8204040" cy="471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who won Pro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your area in FP7 (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eu/search/index.cfm?fuseaction=proj.advSear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who received contracts in your scientific area in FP6 (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eu/fp6/projects.h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 Existing Networks: Search for 'Coordination Actions' on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lu/fp6/projec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badi MT Condensed Extra Bold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Conferences that have been funded in your area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eu/fetch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?CALLER=EN_NEWS_EV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/ec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eu/research/headlines/archives_diary_en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cf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/ec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eu/research/conferences/index_en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.c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54936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start your international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35040" y="1488960"/>
            <a:ext cx="7848720" cy="3476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 the Relevant EU Association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yperion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e/euassociation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 an existing COST Actions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cost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sf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org/index.ph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ct National Contact Point for your area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eu/fp7/ncp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to become an Expert Evaluator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s://cordis.europa.eu/emmfp7/index.cfm?fuseaction=wel.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7200" y="736560"/>
            <a:ext cx="8229600" cy="597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it a European Research Infrastructure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u/infrastructures/project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P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 an Existing Network: Coordination Action(FP6)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lu/fp6/projects.h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Marie Curie Host Site seeking fellows on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u/mc-opportunities/index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cfm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?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fuseaction=dataForm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.do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Marie Curie Host Site on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/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eu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.int/eracare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Marie Curie Conference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eu/mc-opportunities/index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cfm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?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fuseaction=dataForm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.doSearchEv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Cordis News for Future Conferences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eu/news/en/home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5228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start getting funding with Framework Program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00280" y="1050840"/>
            <a:ext cx="742932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what is the bureau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280" y="2187720"/>
            <a:ext cx="7429320" cy="346212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have an idea you would like to convert into a research propo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information on what opportunities there may be for your science in FP7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to know what are the challenges of taking part in an international research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to know whether your current research programme is suitable for an international collaborativ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57200" y="2152800"/>
            <a:ext cx="8229600" cy="311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DIS Partner Search Service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u/partners-servi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LO Informal group of RTD Liaison Offices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glortd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org/services/partne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T Partner search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deal-ist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ance in Joining ICT Projects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agridproject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net/index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29528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services available for beginn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00280" y="1295280"/>
            <a:ext cx="7429320" cy="42699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help with writing an FP7 research propo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have an FP6 or FP7 proposal that did not succeed that you would like us to assess for you to advise you on how to succeed next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us to send you any information on the FP7 The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help to find partners for a consortium you are putting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us to send you our partner profile form to fill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12880" y="1317600"/>
            <a:ext cx="7429320" cy="2364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us to add your name to our distribution list for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have any suggestions on how we can help you with your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just want to chat about improving your research ski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5480" y="4343400"/>
            <a:ext cx="74325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sk about any of these questions just call Steve Quarrie (-11 3035047) or Jelena Kolić (-11 3398830) or email us at info.biro@mntr.sr.gov.y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55680" y="2892600"/>
            <a:ext cx="835668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some information on what is on offer in FP7 for you at the moment and what might be of interes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760" y="5587920"/>
            <a:ext cx="760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P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structure, work programmes, calls </a:t>
            </a:r>
            <a:r>
              <a:rPr b="1" lang="sr-Latn-CS" sz="32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Arial"/>
              </a:rPr>
              <a:t>Jelena Kol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inistarstvo na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nsultativni biro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za međunarodne proj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228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05080" y="2076480"/>
            <a:ext cx="7129440" cy="3486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0120" y="5562720"/>
            <a:ext cx="1066680" cy="9428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FP -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29600" y="4572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171360" y="1101600"/>
            <a:ext cx="777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10 Thematic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od, Agriculture, Fisheries and 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formation and Communication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anosciences, Nanotechnologies, Materials and new Production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vironment (including Climate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ransport (including Aeronau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cio-Economic Sciences and the Huma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755640" y="333360"/>
            <a:ext cx="7956720" cy="647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peration – Collaborativ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8193600" y="11858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€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8163000" y="204624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1.9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8170560" y="16178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6.0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8150760" y="2476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9.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8165160" y="29113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3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8169840" y="3718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2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8157240" y="41562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1.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8157240" y="4600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4.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98800" y="50418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8182440" y="54482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1.4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8169840" y="5911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1.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58200" y="2286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303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21:58:19Z</dcterms:created>
  <dc:creator>Steve Quarrie</dc:creator>
  <dc:description/>
  <dc:language>en-US</dc:language>
  <cp:lastModifiedBy>montezuma</cp:lastModifiedBy>
  <dcterms:modified xsi:type="dcterms:W3CDTF">2008-06-11T10:36:11Z</dcterms:modified>
  <cp:revision>213</cp:revision>
  <dc:subject/>
  <dc:title>PowerPoint Presentation</dc:title>
</cp:coreProperties>
</file>